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250A-4044-4979-BFEA-88094DCAD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DF1D-16F9-45A3-964C-58D214AC3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C58C-FBF6-4A82-960D-851BFC70A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8EC9-4263-4743-BF2A-FBE405345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6CE2-1A90-4EE0-9CF3-F0FB26548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7E12-AA0F-4EAA-802B-85CC81E0B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BB1B-6BD8-4E92-B7E5-843490603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813F-DAE9-4076-B87A-6F47FC800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F211-1BB8-4696-9D9C-93CA8BFC9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FF09-726A-4D22-99DF-233FDD79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E4B4-3BF0-4646-A8D7-247D23BF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4AE6-EA5D-4DF4-827C-EC7D540F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57115-05B9-45C4-9CA7-BB1C145EA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podloga"/>
          <p:cNvPicPr/>
          <p:nvPr/>
        </p:nvPicPr>
        <p:blipFill>
          <a:blip r:embed="rId1"/>
          <a:stretch/>
        </p:blipFill>
        <p:spPr>
          <a:xfrm>
            <a:off x="611280" y="189000"/>
            <a:ext cx="7921440" cy="5930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podloga"/>
          <p:cNvPicPr/>
          <p:nvPr/>
        </p:nvPicPr>
        <p:blipFill>
          <a:blip r:embed="rId2"/>
          <a:stretch/>
        </p:blipFill>
        <p:spPr>
          <a:xfrm>
            <a:off x="468360" y="420840"/>
            <a:ext cx="8280360" cy="61293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708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ехабилитација AI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5516280"/>
            <a:ext cx="640080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ц. др Катарина Парезановић-Ил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онтраиндикације за рехабилитацију након А</a:t>
            </a: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-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844640"/>
            <a:ext cx="8278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п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 контраиндик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А 200/120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mH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ипотензија £ 90/60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хикардија 120/мин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радикардија £ 50/мин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ебрилност ³ 38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енутно добијање трансфузије крви или плазм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ардиоло</a:t>
            </a: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е контраиндикациј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стабилна ангина п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орис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р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а инсуфицијенција (декомпензација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рем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ј ср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ог ритма (фибрилација, атријални или вентрикуларни флатер, вентрикуларне тахикардије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те и везане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синдром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Т) и др. Појединацне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до 5 минута - дозвољавају рехабилитациј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рем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ји спров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ња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ick sinus sindrom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и 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блокови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епена, блокови гран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i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овог снопа (бифасцикуларни блок). 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блок првог степена не представља контраиндикацију за кинезитерапију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ардиоло</a:t>
            </a: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е контраиндикациј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кутни миокардитис и перикардитис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подно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ње ергометријских тестова од 50W уз појаву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Т депресије или елевације ве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 од 2 мм или клини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м сликом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inz-Met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ангине п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орис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ардиолоске контраиндикациј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35164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зр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н тромбофлебитис екстремитета или тромбоза унутар ср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не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пљине,  (тромбофлебитис и флеботромбоза екстремитета су контраиндикација за кинезитерапију, али се мо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 спровести позиционирање и блага мануелна мас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 ради лимфне дрен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. Код мас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 потребно је користити и ферментативне масти за утрљавање у ко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 као сто су хепалпан или хепаринске масти. Тако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 користе се и облоге од алкохола-газа треба да буде увек вл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.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-налаз који указује на уве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ње леве коморе ви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 од 6 цм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стојање постинфарктне анеуризм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слабљена контрактилност миокарда-смањење ејекционе фазе испод 40%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друзене аортне мане и др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Циљеви рехабилитације након А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-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628280"/>
            <a:ext cx="80773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бука психофизи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м мировању (психомоторна релаксација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пре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ти анксиозност (знаци анксиозности доминирају првих неколико дана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пре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ти депресивну симптоматологију (актуелна након неколико дана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ратити тонус и снагу миси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пре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ти тромбофлебитис, хипостатску пнеумонију и уринарне инфекције (рана мобилизација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бољ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ти рад ср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не пумпе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ди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 праг за ангинозни бол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тимулисати развој колатералне циркулације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оменити ло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вотне навике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оду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ти радни и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вотни век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бољ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ти квалитет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вот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917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оцес медицинске рехабилитције подразумева три фаз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фаз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азa хоспитализ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фаз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азa реконвалесцен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фаз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азa постреконвалесцен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фаза- фаза хоспитализациј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грам физи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е активности подразумева поступност-"корак по корак". М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 клиника препору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је свој програм физи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е активности"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корака за 10 дана". Ради боље прегледности изне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мо програм кинезитерапије по даним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Фаза хоспитализациј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е никада не п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њати пре другог дана од настанка 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-а. П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так в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и је индивидуалан. У идеалним условима п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ње другог дана али у пракси об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о тр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г или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твртог дана. У п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тку основни програм је прогресивна релаксација по Шулцу и нефорсирано абдоминално дисање (абдоминални тип дисања тр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мање енергије). Према данима в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ања у клин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ј пракси је уходан след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образац в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Програм 10 корака за </a:t>
            </a: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0 да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2062080"/>
            <a:ext cx="84582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ан в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ања-в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е у л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м пол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ј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ан в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ањ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у седећем ста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II дан вежбање + стајање поред крев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V дан вежбања + ход у соб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V дан вежбања+ ход у ходнику до 50 мета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VI дан вежбања + 100-200 метара х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Програм 10 корака за </a:t>
            </a: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0 да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VI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дан в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јпре поновити програм од предходног дана, а затим се користе степенице и то Милинов степеник који се састоји из три усходна и три нисходна степеника. Пацијент би требало да се попење и сидје 5 пута Милиновим степеником. Ово оптерецење одговара пењању на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пра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VII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ан в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новити цео програм предходног дана, а затим покусати пењање на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пра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Ув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 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талости и последицама, кардиоваскуларне болести представљају проблем од посебног јавно-здравственог з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ја. Са прод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њем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вотног века све в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 је особа које долазе у године када срце поп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а. Основни услови да се то поправи су: превенција, л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ње и рехабилитациј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Програм 10 корака за 10 да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дан в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новити програм в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ања, а затим пењање до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пра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дан в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ти програм као и предходног дана, а затим се мо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 додати и програм оптере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ња на ергобицикл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азлози за прекид кинезитерапијског програ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700280"/>
            <a:ext cx="853416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хикардија- срцана фреквенција изнад 130 /мин или пораст за 30% у односу на период мировања. Ова појава указује да су везбе предозиране и у договору са кардиологом треба смањити обим и интензитет везби или их прекинути на неко време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јава аритмиј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гинозни бо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всецај недостатка ваздуха и брзо замарањ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овонастало бледило или цијаноза уз нагли пад артеријске тензије и пад пулс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кок артеријске тензије изнад 180/120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mH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дозвољен скок артеријске тензије и пулса је до 30% од вредности у миру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Значај ране рехабилитациј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631880"/>
            <a:ext cx="86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едукција систолног артеријског притиска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едукција потреба за О2 у миокарду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едукција срцане фреквенције- пулса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едукција морбидитета и морталитета, смањење триглицерида у серуму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ењање односа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HD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LDL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 корист протективног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HD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едукција телесне тезине, побољсање коронарног протока и убрзање стварања колатералног коронарног крвотока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мањење анксиозности и депресивних испољавања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едукција појаве ателектазе плуца и хипостатске пнеумоније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мањење тромбоемболијских компликација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бољсање фибринолитицке активности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мањење боравка у болници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мањење физицког и професионалног инвалидитета и др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84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фаза - фаза реконваласценциј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 овој фази потребно је наставити запо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ти програм ране рехабилитације у специјализованим институцијама за кардиоваскуларну рехабилитацију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 овим инситуцијама наставља се физи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 активност која треба да је до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вот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7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-фаз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фаза постреконвалесценциј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озирана физичка активност према Андерсоновој форму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0-80 od max.sr.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.sr.f=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200(210)-године  жив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Превентивне ме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ж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 превентивних мера треба да се заснива на одстрањивању фактора ризика. Утицај фактора ризика може се смањити на след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 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е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ним откривањем и адекватним л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њем "ризико-обољења" ка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о с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иперхолестеролемија, дијабетес, хипертензија и "ризико-фактора"-п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ње, насл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 и д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мена одговаруј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г хигијенско-дијететског режим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меном процедуре здравственог просв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вања и васпитањ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атоло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а класификација пацијената са обољењем ср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640" y="2122560"/>
            <a:ext cx="8710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ртериосkлерот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обољењ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ипертон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обољења срц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умат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обољења срц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нгенитална обољења срц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руга обољења срца (вирусна обољења и др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лини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а процена функционалних способ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нас се сматра да је најбољи параметар, функционалне могу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ости ср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их болесника, одр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вање потр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ње кисеоника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2 маx) и "анаеробног прага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2 маx-је израз најв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 кол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е крви коју срце м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 да пру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ткивима и најв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 кол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е О2, коју м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влакна могу да утр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 у току физ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г замарања. Ова вредност се об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о изр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ва јединицама метабол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г еквивалента (МЕТ) у мировању.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Т одговара утр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у 3,5 мл О2 на кг/тт/ми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етоде испитивања ср</a:t>
            </a: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аних болесник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3840" y="1600200"/>
            <a:ext cx="7392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Физикални преглед ср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рење фреквенције ср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рење крвног прити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кусија, палпација и аускулт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лектрокардиографски прегл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глед нормалног електрокардиогр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ормална одступања електрокардиогр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атолоске промене електрокардиогр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етоде испитивања ср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аних болесник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801216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3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Лабораторијска испитивањ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sr-R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стандрадни показатељи (СЕ, ККС, гликемија, холестерол, урин, уреа, триглицериди, крвна група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sr-R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фракције холестерола, трансаминазе, апопротеин А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ц) одре</a:t>
            </a:r>
            <a:r>
              <a:rPr b="0" lang="sr-RS" sz="23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ивање Ц-реактивног протеина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д) одре</a:t>
            </a:r>
            <a:r>
              <a:rPr b="0" lang="sr-RS" sz="23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ивање фибринопептида А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е) одре</a:t>
            </a:r>
            <a:r>
              <a:rPr b="0" lang="sr-RS" sz="23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ивање електролита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Сцинтиграфиј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3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Ецхокардиографиј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300" spc="-1" strike="noStrike">
                <a:solidFill>
                  <a:srgbClr val="000000"/>
                </a:solidFill>
                <a:latin typeface="Arial"/>
              </a:rPr>
              <a:t>VI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Ангиокардиографија (коронарографија)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300" spc="-1" strike="noStrike">
                <a:solidFill>
                  <a:srgbClr val="000000"/>
                </a:solidFill>
                <a:latin typeface="Arial"/>
              </a:rPr>
              <a:t>VII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Електри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на биоимпенданс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ехабилитација болесника са акутним инфарктом миокар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д 1951 године, када су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Levi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Low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репоруцили рану мобилизацију болесника са акутним инфарктом миокрада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I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настаје нова ера у кардиоваскуларној рехабилитацији. До тада се сматрало да је након инфаркта миокарда, потребно апсолутно мировање у трајању од најмање 6 недеља. Овај став је засниван на патолоским налазима, да је за стварање фиброзног озиљка на месту инфаркта (миокардне некрозе) потребно око 6 недеља. У вези са тим сматрано је да физицка ативност у раној фази након акутног инфаркта миокарда мозе условити настанак дилатације тј. формирања вентрикуларних анеуризми или руптуру ср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84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араметри који указују на постојање А</a:t>
            </a: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-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5200" y="1855800"/>
            <a:ext cx="785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ајање ангинозног бола ду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 од 30 минута (бол се м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 манифестовати у прекордијуму, вилици, рамену, врату, прстим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ке, у пределу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луца, трњење леве руке и др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ромене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 елевација или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Т депресија&gt;1-2 мм, Q-зубац и негативан талас-Т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зитиван биохуморални синдром некрозе миокарда (пов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 нив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P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LD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BD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крви)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P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 код 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-а пов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ва најмање два пута од горње границ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0T14:35:16Z</dcterms:created>
  <dc:creator>WIN98SE</dc:creator>
  <dc:description/>
  <dc:language>en-US</dc:language>
  <cp:lastModifiedBy>Kaca</cp:lastModifiedBy>
  <dcterms:modified xsi:type="dcterms:W3CDTF">2022-08-20T13:38:29Z</dcterms:modified>
  <cp:revision>20</cp:revision>
  <dc:subject/>
  <dc:title>Rehabilitacija AIM</dc:title>
</cp:coreProperties>
</file>