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5B3-CA53-4271-98FA-004F42F7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CF9-F9C8-40E5-A33A-E1C0A361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6FA45-E6D4-4F20-8C80-1AB96FEC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8A95D-5F5E-44E6-BED3-44B4B1AF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78E35-E143-4BF8-BA9C-8C29B07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35890-065D-4485-AA15-F81286B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C6473-5739-4ED0-8346-F0E2F787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E4ACC-7B30-4A37-B8D9-A5BEDA3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49B95-8CAD-46A9-9979-BA5D19CE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19BAE-087F-44E4-9DA5-3D2EA007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2E562-40EE-4192-8008-F96B45B5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706EF-6074-497E-B153-E1C538A6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253-7C5A-4E36-9BA6-70A3C49B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2E433-558D-4095-89C1-97EBD56A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1E8A2-9C0E-443F-A40D-0C7C2FB0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C51CD-7493-492E-92C5-52A7C4C1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3C7B4-CC26-4277-BFEC-0D55C4A7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0CB4F-D195-42B0-AEF2-277FB9D8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A43E2-2A9F-49BB-9325-C0203F1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9C589-2712-48EF-8686-08B5A5CE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C76E4-22F7-4D59-90CF-EC067A1C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E5878-9190-456B-89CD-D307488C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31731-16BB-4630-B826-4E515189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3ED-B21E-4C7B-B276-1C451BF8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E76C7-6545-4CFF-886D-1D58E40D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D201F-90B2-43A2-860A-5AFFA008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4791C-D135-4C3D-BACA-F9AF147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4574B-4629-4B3D-936F-525B9589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59F75-C37A-4010-B602-34EA10CA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F25ED-87F1-44C6-B5BA-F8DCCC13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D0D56-F0F2-4F9A-A12C-BDDFBA7F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6F846-CA4B-4E9C-B26C-ECBBBA03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16F48-4A80-4C53-B857-3EF4F3A9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501E2-3472-4E93-951F-5E573ED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606A-5F9D-4761-8F22-3A55969B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1C72F-D0D5-48AC-97DD-8420C35E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60C7B-9DB3-4481-B5AD-E9FBA4D1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D3555-ACDD-4493-AF48-C0356D61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53B0A-00CB-457C-8063-C8CD6AF6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9CF63-EF46-4179-8052-EEAD94D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FADB3-762C-4131-9DA0-5A7D9735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F876F-181E-40C3-8886-9FCC93B2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B5F46-B3EA-4850-91DB-ECCC1BF3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4C4C7-FB0E-4E7F-B05F-19DF9A3B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61F30-6642-42F7-B391-AAAF6943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1511-FAD9-4FBC-B9F3-46454265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16254-E5F0-4425-A6D9-664B6DA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3802C-311C-4334-B829-063ECE2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C6145-A082-47BC-96FE-8D2DF28E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B70BC-EDA6-425B-A96D-AA8C359E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5B441-B1CA-4311-A5CF-96A0DDD2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736BF-AC6E-41B6-AC26-EC5547E6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1006E-0EC5-4E14-9FF1-F8A5870A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3D729-50DF-4CCA-BC26-5557BF4A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F7C25-04DB-468D-A21B-E714E418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93AAF-6B53-463F-8B46-9D26B9AA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BFB7-7AB2-48C5-ABFF-C2EC821C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890B2-7399-4B1C-8C6F-3D55B4D7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8F338-1B2C-45EC-997C-A8F7738D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7B73E-1B0A-4EC7-92DF-F8C7FC87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7251C-EB12-400C-8D65-702ED518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B7763-B224-49DB-8BE4-760AD35D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7B717-3D27-4429-B121-23E02B52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5C6D6-76E0-4A26-8A7B-6D4CBEA9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78574-989D-45A4-A8FC-3253F988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0EB15-2BFB-4990-A79A-A8A20A7B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4B436-9161-43EA-A7E7-4ECE749A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FEE5-D1AD-4EDE-97F0-B8122F8F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D2E7F-55D2-47A5-BA52-95D75C0F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B7953-396E-40BD-9228-D1B95054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86772-C9EE-43C4-8A5C-477D8D35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5F8CC-DCBE-41AB-9A6D-D9B7D8EE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D0B54-7ED9-42D0-A5A2-E0E3E03C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4B239-6738-4596-802F-32FF7609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ED0B8-D970-4531-A74C-844AAD75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A4278-E4AC-49B6-A963-DE0060B3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70901-3D54-4D6C-AD5D-6F128678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65CD3-500C-452B-999B-6E7172FE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C844-31DB-4CB6-A9C6-71CF1564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47249-9844-4A33-AAA8-0F9F0F36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FD8AA-4A86-4560-BADB-1799B2D6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B57EA-590B-4218-B812-F385A044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B52D5-C2DF-4FE1-8955-A5871A28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9D70E-DD40-4C0D-9162-37E15610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0C509-0C3B-4608-A50B-5BF47D05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F586F-BFB6-4846-BE84-EA2171E5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CF108-7509-4345-891F-005F5821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3146D-F761-45D9-8FC4-EFE311F2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3A211-E971-46BD-A87F-BB785FC8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F94A-5723-41E4-919F-B4624C3C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5FD6E-7AB2-437E-8346-49CC04CA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1F032-279E-4FFB-BF52-884954B7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BEC0E-0847-4780-BEC5-605476E8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209F5-6817-4B87-B0A2-6725185F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20559-0C3A-4DE9-8FF8-0239111F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4E044-65B1-4AF6-9D7A-3426D60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DEB7C-B80A-43BA-815C-EEB9FEF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C064D2-7D1B-4A44-AE76-FEE06D4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71668-F83F-4216-B1A9-BD82169A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9FE6D-6075-425E-8E88-521CEDAB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B53F-D93A-445A-BBC4-9A664D7F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BA368-7EDD-4B84-AB26-53AB38A1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16937-131C-466A-8E21-FE552EAC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7F8E1-8967-48E6-86AF-A3F134C8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AB29E-6FC3-424D-9567-73080F31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094DB-FCF9-47B0-AB75-DB720935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275F3-8070-4ECF-959E-505BDFF1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4F820-4036-4E28-884E-E6CE8C7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F1318-0FAD-41D0-9214-F2628296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61413-144D-4630-BAE2-EA4E3BDA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7C5C9-6987-4829-BD35-0E4666A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6FF-CF5B-4823-9092-67771244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E309-5DE1-49F8-AE47-61DE0A96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7F5CEA-2717-42E3-8AC8-4E71F010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9DE75-33ED-44A6-900F-77569163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5395C-413F-4C10-9F67-84088192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BD1F1-DB9D-4B53-B14E-97A0E84F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59F23-6B39-4AE5-8930-C6EB11FD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9E80E-A6F3-4624-B113-DB666018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5F261-21AC-4B7C-A488-C1BCD65E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C4D27-ECAC-4CD3-BF05-EF1A7362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F56CB-CC8F-460B-A5E2-05C967F8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1D003-BE52-479E-8E2F-7466E199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CB99-0E57-4E7C-B242-76D585C4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4318B-09B0-4ECF-AE9A-DF7FC05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68E1C-DB40-4DAA-A322-C8D40D3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4A38C-2F23-4186-8A84-E30A7112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1AAC9-B6DE-49AA-8940-E40DA3D9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02B35-F764-45AD-B6F2-1E8BC9C0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E1F7E-813C-4624-B1EB-8C1D84A1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44F21-9AC8-4979-A459-46BC456A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CE3B-39C6-4016-A75A-722DE9EB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2166-71C3-4BAD-B4A4-153FCCC4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D6E6-E7BF-49C8-9BD7-E3367AE0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5022-216C-48C1-8B2B-B69BC027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A71D-F94E-42FF-BA04-BEE14E6B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C107-F5A5-4B62-BCD7-D8FB23FF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C276-366E-4B6B-8BEA-2CE7AB5D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5E30-3F48-4906-AE9F-1A175C6D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DBD-B8D6-4032-968F-9ED186EF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76E7-3D77-4E5B-9467-C52B67DB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7007-D3EA-48B5-8392-A839C5AA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2F1E-8F1A-4A3F-B271-29A2EAE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FC2E-6F57-483A-AA47-A6DCBC5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B60A-2A5C-4F69-9387-DC2C17A5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7F61-BC31-446E-A207-5BF4425A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E4E2-2E7A-4CD9-8453-69B8BA81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B0A8-94C6-41D1-8287-1F0FA732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2174-71BA-47CF-BCF4-ADF0E918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A509-9BA2-4BE1-AA21-F5FB9986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EF8-1AD6-4644-A300-C8CFE3C6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F10C-C156-4223-92A7-1E688B28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45A39-5A39-41B0-95D3-A63FD5F7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B215-D621-4742-890D-CE36C4DE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FCF4-7C79-4EDA-AD9F-277DD89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0844-38DA-4470-8FC7-16EB13A5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1598-B2E5-4DA2-839D-54E577A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D54F-8831-4E53-8F48-3CF39906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02036-2700-4323-8320-0D5D2F5D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9978-C196-4AAD-8868-86E675C9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3F404-8CBB-4A9F-B07A-FE2B7CB5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55C-E5D0-497F-A41E-58A045E6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4131-D817-47C4-AD6D-CFFF473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5FD80-1446-4EB9-AE8F-94C0F5DF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C4EF5-F7AB-4379-822F-C7AC0FCA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C76FD-F190-466F-A3FB-D558F175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5EE78-386A-4A4E-A33C-2628CAC9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9156-AF7E-456D-BA82-EE097FE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C7323-F464-45EB-B673-9811C67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28D8A-E16B-4806-99DB-BD26C0C2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6C253-C3FE-4C02-8EE6-7FAFEB96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8B8E-DAA2-4B78-9EB6-A99F8D2C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805-2276-4180-8050-1DBB2629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ED15-E0CD-4471-A11C-B0E7256A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C80C4-BBD2-4023-A5F8-2863BDC9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8A53E-E7AE-4164-943C-B17A646C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687C-DDC2-4A40-BAE4-8258134B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A950D-311F-4395-AE56-1E3CDF5C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EF39-DB85-41F8-B370-687AD939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8ED91-EB98-4381-ADEC-461C0A7E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DD9AD-8B13-4959-AC00-9C2BDC2A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8AE5D-2BF5-4CD6-AAE6-817F648B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0A841-75C5-4EDF-BF69-6C17DA7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56E-4780-4621-90AB-4726CEF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5CD3E-D3EC-4BE9-A8D4-37C0DE08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C2CF6-696D-4F8C-A37C-3D5DA972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85D04-4500-4CE5-B61C-4C13CF64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7758-57DD-4674-A07E-D3F48E30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4D7BC-48AE-4B72-9CFB-1EC5EA31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137CF-5101-4102-992A-F55CD6DE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D3DE7-DCF7-4199-9B1A-247B52B7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27759-15F7-40DA-96BD-5FB6F09C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67AB-B3E4-4EED-B17C-C06247F8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23199-D2CE-4A7A-804C-F83FFD35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55B-7534-424B-A8C5-299087B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A536A-66C7-48C7-8B5D-4FFD2919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1A3AE-3B38-4D8D-9443-74F0DA5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DB2B5-69A9-4EC5-AC0E-EE192A70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7D83-2489-42F0-8A14-62D9DCB4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CD31-032E-4DC7-AF7F-C4C4AF91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69E20-D55F-46E0-829E-751685EA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56E58-F0D1-4A75-BC29-202077F5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3E726-362B-4A8E-9E46-E50772B7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A456F-9A7A-4D13-B568-C9D32F88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85572-5F43-4B86-A2DB-FDC9EC9B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D9D-1FD2-4B95-97BC-F6E3FC81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4303A-4AD8-4096-A4D7-7574517C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081C7-462F-4732-84A3-DBA98E7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CA2D1-5A04-4031-9D07-8C5DD09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AA6AC-EB55-469A-901E-6370B106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01133-283F-4236-8769-A00DA7EC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27A15-A785-46F5-8DAE-207855B1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5C791-3411-432C-BDD6-6A147FE3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0C5F6-9BC9-4D4A-B1EE-EBDA5F66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D719D-87A8-46C8-95E2-3B4EC1D4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B635A-B66F-4F4F-8201-7847F930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90A54-E8E3-4EA8-AC23-3876AB7A2DB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84221-0DAF-4CBA-9D77-F0C45DB0335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C69D2-3C6B-4B95-9B4B-AF4BCB8F1CD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77926-6F8E-41D3-A112-2C7AF81B3D3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CAC2B-0660-4628-A6CD-D5E1BACB551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FFF12-8FED-468C-BA0A-ABF5098CBE1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30447-A51F-4099-A0D2-46DE00779EA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58F16-23CD-4EF0-AA0C-EF72746FC0B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AAACC-F677-4E45-92B2-E56CC9C9988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39F9B-02A1-4C62-8B4A-3C03DA8E7EF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8" name="Straight Connector 2"/>
          <p:cNvSpPr/>
          <p:nvPr/>
        </p:nvSpPr>
        <p:spPr>
          <a:xfrm>
            <a:off x="45720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9" name="Picture 10" descr=""/>
          <p:cNvPicPr/>
          <p:nvPr/>
        </p:nvPicPr>
        <p:blipFill>
          <a:blip r:embed="rId3"/>
          <a:stretch/>
        </p:blipFill>
        <p:spPr>
          <a:xfrm flipH="1"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C162F-A85A-4C6D-A0A7-ECA19B54A50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701D0-40DC-455B-A13B-3CFE3B1909F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34D15-5C6B-448D-8BB4-A7F3F742807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0F8DC-7D77-4BAE-A0D8-15FDC6F2FED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F0ADC-9415-4ECC-A500-28843D55F78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822E4-0DE3-4146-83B2-B44C112E14E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9B680-108E-4E9A-98B2-DE5C21842FF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DB448-CA03-4F63-ACD1-B6707CBB63F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9760" y="2733840"/>
            <a:ext cx="607032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ffffff"/>
                </a:solidFill>
                <a:latin typeface="Trebuchet MS"/>
              </a:rPr>
              <a:t>СКОЛИОЗА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1142640" y="5661000"/>
            <a:ext cx="558972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324000" y="23652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rebuchet MS"/>
              </a:rPr>
              <a:t>Структурна сколиоза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01" name="Picture 3" descr=""/>
          <p:cNvPicPr/>
          <p:nvPr/>
        </p:nvPicPr>
        <p:blipFill>
          <a:blip r:embed="rId2"/>
          <a:stretch/>
        </p:blipFill>
        <p:spPr>
          <a:xfrm>
            <a:off x="595440" y="1676520"/>
            <a:ext cx="798984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ТЕРАПИЈА СКОЛИ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1042920" y="2336400"/>
            <a:ext cx="6378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rebuchet MS"/>
              </a:rPr>
              <a:t>Конзервативн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физикал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ртотис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rebuchet MS"/>
              </a:rPr>
              <a:t>Оперативн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Конзервативно лечењ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533160" y="2336400"/>
            <a:ext cx="81421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Зависно од степена кривине: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03400" indent="-2034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5-10</a:t>
            </a:r>
            <a:r>
              <a:rPr b="0" lang="sr-Latn-CS" sz="2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- 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физичко васпитање, пливање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03400" indent="-2034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10-20</a:t>
            </a:r>
            <a:r>
              <a:rPr b="0" lang="sr-Latn-CS" sz="2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- 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Кинезитерапиј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03400" indent="-2034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25-30</a:t>
            </a:r>
            <a:r>
              <a:rPr b="0" lang="sr-Latn-CS" sz="2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- 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ТЛСО</a:t>
            </a: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мидер и кинезитерапиј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03400" indent="-2034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35-40</a:t>
            </a:r>
            <a:r>
              <a:rPr b="0" lang="sr-Latn-CS" sz="2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- ЕДФ корекција-гипс мидер и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 кинезитерапиј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03400" indent="-2034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знад 45</a:t>
            </a:r>
            <a:r>
              <a:rPr b="0" lang="sr-Latn-CS" sz="2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хируршко лечење и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 кинезитерапиј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03400" indent="-2034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rebuchet MS"/>
              </a:rPr>
              <a:t>Тип сколиозе има значај у лечењу: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102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rebuchet MS"/>
              </a:rPr>
              <a:t>код инфантилних- мидери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102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rebuchet MS"/>
              </a:rPr>
              <a:t>код јувенилних и адолесцентних- мидери и кинезитерапиј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rebuchet MS"/>
              </a:rPr>
              <a:t>ОПЕРАТИВНО ЛЕЧЕЊЕ СКОЛИОЗ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1186920" y="2636640"/>
            <a:ext cx="71298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перациони третман </a:t>
            </a:r>
            <a:r>
              <a:rPr b="0" lang="sr-C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укочење кичме (спондилодеза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СПОРТСКЕ АКТИВНОСТИ </a:t>
            </a:r>
            <a:br>
              <a:rPr sz="3600"/>
            </a:b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КОД СКОЛИО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971640" y="2133720"/>
          <a:ext cx="6624720" cy="4422600"/>
        </p:xfrm>
        <a:graphic>
          <a:graphicData uri="http://schemas.openxmlformats.org/drawingml/2006/table">
            <a:tbl>
              <a:tblPr/>
              <a:tblGrid>
                <a:gridCol w="2160360"/>
                <a:gridCol w="4464360"/>
              </a:tblGrid>
              <a:tr h="44226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20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гуће су све спортске</a:t>
                      </a: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ктив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ма специјалних захте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епоручује се активно учешће у спорту (телесно васпитањ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09720" y="752040"/>
            <a:ext cx="6518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СПОРТСКЕ АКТИВНОСТИ </a:t>
            </a:r>
            <a:br>
              <a:rPr sz="3600"/>
            </a:b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КОД СКОЛИО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1042920" y="2276640"/>
          <a:ext cx="7345440" cy="4248000"/>
        </p:xfrm>
        <a:graphic>
          <a:graphicData uri="http://schemas.openxmlformats.org/drawingml/2006/table">
            <a:tbl>
              <a:tblPr/>
              <a:tblGrid>
                <a:gridCol w="2016360"/>
                <a:gridCol w="5329080"/>
              </a:tblGrid>
              <a:tr h="4496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1-40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 основи су могуће све спортске активности (забрана доскока и оптерећење кичменог стуб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епоручује се настава телесног васпитања у шко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а време спортске активности обавезно скинути ортозу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95400" y="752040"/>
            <a:ext cx="64324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СПОРТСКЕ АКТИВНОСТИ </a:t>
            </a:r>
            <a:br>
              <a:rPr sz="3600"/>
            </a:b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КОД СКОЛИО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008000" y="2276640"/>
          <a:ext cx="7164360" cy="4422600"/>
        </p:xfrm>
        <a:graphic>
          <a:graphicData uri="http://schemas.openxmlformats.org/drawingml/2006/table">
            <a:tbl>
              <a:tblPr/>
              <a:tblGrid>
                <a:gridCol w="1870200"/>
                <a:gridCol w="5294160"/>
              </a:tblGrid>
              <a:tr h="44226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еко 41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Постоји ризик и треба узети у обзир евентуалне респираторне и друге ризико фактор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СКОЛИО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Сколиозе су обољења де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ијег и адолесцентног узраста. У току раста ки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ма по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иње безболно да се криви са тенденцијом погор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авања. Престанком раста терапијске могу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ности су веома мале, остаје једино оперативно ле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ење код те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ких сколиоза уз минимално поправљање постуралног става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Упркос томе етиопатогенеза јо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ш 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увек није расветљена и данас мо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ж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емо ре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и да сколиозе не представљају једнинствено обољење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Узроци сколиоза су ви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еструки па због тога и разликујемо ви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е врста и типова, а 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то даје и посебан пе</a:t>
            </a:r>
            <a:r>
              <a:rPr b="0" lang="sr-CS" sz="2000" spc="-1" strike="noStrike">
                <a:solidFill>
                  <a:srgbClr val="ffffff"/>
                </a:solidFill>
                <a:latin typeface="Dutch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Dutch"/>
              </a:rPr>
              <a:t>ат у смислу еволуције, прогнозе и терапије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ОДЕЛА СКОЛИОЗ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utch"/>
              </a:rPr>
              <a:t>1. Функционалне сколиоз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- ло</a:t>
            </a:r>
            <a:r>
              <a:rPr b="1" lang="sr-CS" sz="2000" spc="-1" strike="noStrike">
                <a:solidFill>
                  <a:srgbClr val="ffffff"/>
                </a:solidFill>
                <a:latin typeface="Dutch"/>
              </a:rPr>
              <a:t>ш</a:t>
            </a: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е др</a:t>
            </a:r>
            <a:r>
              <a:rPr b="1" lang="sr-CS" sz="2000" spc="-1" strike="noStrike">
                <a:solidFill>
                  <a:srgbClr val="ffffff"/>
                </a:solidFill>
                <a:latin typeface="Dutch"/>
              </a:rPr>
              <a:t>ж</a:t>
            </a: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ање,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- неједнакост ногу, ампутација, контрактуре кука и сл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ОДЕЛА СКОЛИОЗ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utch"/>
              </a:rPr>
              <a:t>2. Структуралне сколиоз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- идиопатске,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- остеопатске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utch"/>
              </a:rPr>
              <a:t>а) конгениталне,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utch"/>
              </a:rPr>
              <a:t>б) торакогене,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utch"/>
              </a:rPr>
              <a:t>ц) остеодистрофије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utch"/>
              </a:rPr>
              <a:t>- неуропопатске (паралити</a:t>
            </a:r>
            <a:r>
              <a:rPr b="1" lang="sr-CS" sz="2400" spc="-1" strike="noStrike">
                <a:solidFill>
                  <a:srgbClr val="ffffff"/>
                </a:solidFill>
                <a:latin typeface="Dutch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Dutch"/>
              </a:rPr>
              <a:t>не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а) полиомyелитис,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б) друга нервна обољења миопатске ми</a:t>
            </a:r>
            <a:r>
              <a:rPr b="1" lang="sr-CS" sz="2000" spc="-1" strike="noStrike">
                <a:solidFill>
                  <a:srgbClr val="ffffff"/>
                </a:solidFill>
                <a:latin typeface="Dutch"/>
              </a:rPr>
              <a:t>ш</a:t>
            </a: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и</a:t>
            </a:r>
            <a:r>
              <a:rPr b="1" lang="sr-CS" sz="2000" spc="-1" strike="noStrike">
                <a:solidFill>
                  <a:srgbClr val="ffffff"/>
                </a:solidFill>
                <a:latin typeface="Dutch"/>
              </a:rPr>
              <a:t>ћ</a:t>
            </a:r>
            <a:r>
              <a:rPr b="1" lang="en-US" sz="2000" spc="-1" strike="noStrike">
                <a:solidFill>
                  <a:srgbClr val="ffffff"/>
                </a:solidFill>
                <a:latin typeface="Dutch"/>
              </a:rPr>
              <a:t>не дистрофије</a:t>
            </a:r>
            <a:r>
              <a:rPr b="1" lang="en-US" sz="2000" spc="-1" strike="noStrike">
                <a:solidFill>
                  <a:srgbClr val="190224"/>
                </a:solidFill>
                <a:latin typeface="Dutch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190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ОДЕЛА СКОЛИОЗА ПРЕМА УЗРАСТУ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rebuchet MS"/>
              </a:rPr>
              <a:t>Инфантилне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 ( до 3 год.)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rebuchet MS"/>
              </a:rPr>
              <a:t>Јувенилне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 (од 3. године до почетка пубертета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rebuchet MS"/>
              </a:rPr>
              <a:t>Адолесцентне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 (од пубертета до коштане зрелости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rebuchet MS"/>
              </a:rPr>
              <a:t>Адултне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 (након постизања коштане зрелости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e7e6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99640" y="97920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Анатомска подела сколиоз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384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2384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2384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цервик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лна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1-C6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2384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цервикоторакална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C7-Th1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2384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торакална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Th2-Th1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2384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тораколумбална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Th12-L1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2384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лумбална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L2-L4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2384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лумбосакралне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5-S1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 txBox="1"/>
          <p:nvPr/>
        </p:nvSpPr>
        <p:spPr>
          <a:xfrm>
            <a:off x="45684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238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1238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о типу кривине: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12380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21934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једноструке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(С),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1934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двоструке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1934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вишеструке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12380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1238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о страни: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21934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1934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декстроконвексна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21934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</a:rPr>
              <a:t>синситроконвексн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1238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99640" y="97920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одела сколиоз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Дијагностика сколи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89540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rebuchet MS"/>
              </a:rPr>
              <a:t>Клинички преглед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89540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rebuchet MS"/>
              </a:rPr>
              <a:t>Кинезиолошка анализ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89540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rebuchet MS"/>
              </a:rPr>
              <a:t>Ртг дијагностик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Клиничка дијагностика сколи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3" descr=""/>
          <p:cNvPicPr/>
          <p:nvPr/>
        </p:nvPicPr>
        <p:blipFill>
          <a:blip r:embed="rId2"/>
          <a:stretch/>
        </p:blipFill>
        <p:spPr>
          <a:xfrm>
            <a:off x="395280" y="1676520"/>
            <a:ext cx="4197240" cy="442260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4"/>
          <p:cNvSpPr/>
          <p:nvPr/>
        </p:nvSpPr>
        <p:spPr>
          <a:xfrm>
            <a:off x="4716360" y="1828800"/>
            <a:ext cx="41976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Асиметрија кичменог стуб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Ребарна грб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капулае алата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енивелација раме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Асиметија Лоренз троугл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Асиметрија карлиц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Бочни нагиб карлице са   ротациј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онтрактура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m.iliopsoas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Анализа осовинске муксулатур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7:05:09Z</dcterms:modified>
  <cp:revision>36</cp:revision>
  <dc:subject/>
  <dc:title>Balneoterapija</dc:title>
</cp:coreProperties>
</file>