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4DF1-DA48-4721-B4E5-ACFD47CDD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E408-3515-4C71-B848-E46A911A98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609480" y="0"/>
            <a:ext cx="5791320" cy="43434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E358-F499-4454-B7E4-B6181E02C2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93EC-0FBD-449C-8D90-2C37B7DBDF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8E1A-46A3-473C-84F7-29DB2FBA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7ADB-303C-47C2-9C94-8395294E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AE0-2739-406A-9E49-4ADE80D1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DC17-6FEE-41A6-A279-91E442EE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D05D-CC7F-436B-86A1-79CEB108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0268-30E9-45E7-8526-4CFB8593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76CC-72B4-4526-AA11-992C46A1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792D-708B-4A9B-B20A-CD7FC2A5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FE60-7719-491B-B955-FBA0CC95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1733-9017-475E-95FB-D0D6D088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D241-05C0-4BC0-8DEC-C2B9C105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4B3-1F7A-4849-8ADA-2972B333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C1E2-0990-428B-B900-49F0B0DD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A70B-92C7-4F7A-96E3-8537133D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1357-E362-49DA-B765-AFBAE345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3ABA-76D3-4E48-9BD5-FE9BB672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4560-98A1-4C6A-A712-A95ED5F9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C6B-0A96-4080-9A73-C855FED4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8A81-9196-4119-9555-53183357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C74-974E-4177-8E6E-AEF71A34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2DB3-6912-4301-9233-7646E173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7AFC-9E24-42CD-BD98-CBC7E772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5EE2-37AE-4873-BC74-4CE5E692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382-F531-4DE8-A1E4-3614D2DE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7F4C-2B66-4FA3-B4C7-48FC998F92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40FE-3300-4524-9980-D64AB1A49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1371600" y="48927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ff"/>
                </a:solidFill>
                <a:latin typeface="Times New Roman"/>
              </a:rPr>
              <a:t>Доц. др Катарина Парезановић Или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357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ff"/>
                </a:solidFill>
                <a:latin typeface="Times New Roman"/>
              </a:rPr>
              <a:t>РЕХАБИЛИТАЦИЈА КОД ОШТЕЋЕЊА П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МН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Локализација лезиј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Испитивање се усмерава на регију односно на нерв који је о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ш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те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ен и ми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ш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и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е које инерви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ш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е о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ш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те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ени нерв. На основу клини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ке слике и кинезиоло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ш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ке анализе, поред оп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ш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тих карактеристика лезије ПМН-а (тонус, трофика, сензибилитет, испитивање тетивних рефлекса и испитивање патоло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ш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ких рефлекса), одре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ђ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ујемо прецизну локализацију лезије нерв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Times YU"/>
              </a:rPr>
              <a:t>Карактеристи</a:t>
            </a:r>
            <a:r>
              <a:rPr b="0" lang="sr-CS" sz="4000" spc="-1" strike="noStrike">
                <a:solidFill>
                  <a:srgbClr val="ffcc66"/>
                </a:solidFill>
                <a:latin typeface="Times YU"/>
              </a:rPr>
              <a:t>ч</a:t>
            </a:r>
            <a:r>
              <a:rPr b="0" lang="en-GB" sz="4000" spc="-1" strike="noStrike">
                <a:solidFill>
                  <a:srgbClr val="ffcc66"/>
                </a:solidFill>
                <a:latin typeface="Times YU"/>
              </a:rPr>
              <a:t>не клини</a:t>
            </a:r>
            <a:r>
              <a:rPr b="0" lang="sr-CS" sz="4000" spc="-1" strike="noStrike">
                <a:solidFill>
                  <a:srgbClr val="ffcc66"/>
                </a:solidFill>
                <a:latin typeface="Times YU"/>
              </a:rPr>
              <a:t>ч</a:t>
            </a:r>
            <a:r>
              <a:rPr b="0" lang="en-GB" sz="4000" spc="-1" strike="noStrike">
                <a:solidFill>
                  <a:srgbClr val="ffcc66"/>
                </a:solidFill>
                <a:latin typeface="Times YU"/>
              </a:rPr>
              <a:t>ке слике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n. peroneus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висе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e sтопалo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periferni nerv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клин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</a:rPr>
              <a:t>ич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kа сlika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n. tibialis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петно с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</a:rPr>
              <a:t>т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o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</a:rPr>
              <a:t>п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алo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n. radialis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висе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а 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</a:rPr>
              <a:t>ш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aкa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n. ulnaris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кан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</a:rPr>
              <a:t>ђ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aстa 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</a:rPr>
              <a:t>ш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aka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n. medianus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рука пrоpoведниka 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</a:rPr>
              <a:t>или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мaј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</a:rPr>
              <a:t>мун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сka 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</a:rPr>
              <a:t>ш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aka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Nervus radialis: </a:t>
            </a:r>
            <a:br>
              <a:rPr sz="3600"/>
            </a:br>
            <a:r>
              <a:rPr b="1" lang="sl-SI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анaтоми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ј</a:t>
            </a:r>
            <a:r>
              <a:rPr b="1" lang="sl-SI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a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03640" y="1773360"/>
            <a:ext cx="4284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m.triceps brachi, </a:t>
            </a:r>
            <a:br>
              <a:rPr sz="2000"/>
            </a:br>
            <a:r>
              <a:rPr b="0" lang="sl-SI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m. bracshioradiali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m. extensor carpi radialis longus, </a:t>
            </a:r>
            <a:br>
              <a:rPr sz="2000"/>
            </a:br>
            <a:r>
              <a:rPr b="0" lang="sl-SI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m. anconeus, </a:t>
            </a:r>
            <a:br>
              <a:rPr sz="2000"/>
            </a:br>
            <a:r>
              <a:rPr b="0" lang="sl-SI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m. extensor carpi radialis brevi, </a:t>
            </a:r>
            <a:br>
              <a:rPr sz="2000"/>
            </a:br>
            <a:r>
              <a:rPr b="0" lang="sl-SI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m. extensor digitorum communis, </a:t>
            </a:r>
            <a:br>
              <a:rPr sz="2000"/>
            </a:br>
            <a:r>
              <a:rPr b="0" lang="sl-SI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 m. extensor digiti quinti proprius, </a:t>
            </a:r>
            <a:br>
              <a:rPr sz="2000"/>
            </a:br>
            <a:r>
              <a:rPr b="0" lang="sl-SI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 m. extensor carpi ulnaris, </a:t>
            </a:r>
            <a:br>
              <a:rPr sz="2000"/>
            </a:br>
            <a:r>
              <a:rPr b="0" lang="sl-SI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) m. supinator, </a:t>
            </a:r>
            <a:br>
              <a:rPr sz="2000"/>
            </a:br>
            <a:r>
              <a:rPr b="0" lang="sl-SI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) m.abductor pollicis longus, </a:t>
            </a:r>
            <a:br>
              <a:rPr sz="2000"/>
            </a:br>
            <a:r>
              <a:rPr b="0" lang="sl-SI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) m. extensor pollicis brevis, </a:t>
            </a:r>
            <a:br>
              <a:rPr sz="2000"/>
            </a:br>
            <a:r>
              <a:rPr b="0" lang="sl-SI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) m. extensor pollicis longus, </a:t>
            </a:r>
            <a:br>
              <a:rPr sz="2000"/>
            </a:br>
            <a:r>
              <a:rPr b="0" lang="sl-SI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) m. extensor indicis propriu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266920" y="2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70052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66"/>
                </a:solidFill>
                <a:latin typeface="Garamond"/>
              </a:rPr>
              <a:t>N. ulnar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вај нерв има коренско порекло из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7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8, Т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1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лин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 слика показује да пацијент не м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 да изведе след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 покрете: флексију крајњих фаланги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ста. Порем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на је функција абдукције прстију. Атрофија м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к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аних простора (канџаста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ка). Сензибилитет је 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н углавном за мали прст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66"/>
                </a:solidFill>
                <a:latin typeface="Times New Roman"/>
              </a:rPr>
              <a:t>N. ulnar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. fleksor ulnari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. fleksor digitorum profundus III et IV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. fleksor dig. V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. oppones dig. V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. palmaris brevi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. fleksor pollicis brevi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Вис</a:t>
            </a:r>
            <a:r>
              <a:rPr b="1" lang="sr-Latn-CS" sz="4000" spc="-1" strike="noStrike">
                <a:solidFill>
                  <a:srgbClr val="ffcc66"/>
                </a:solidFill>
                <a:latin typeface="Times New Roman"/>
              </a:rPr>
              <a:t>ећа и канџаста шака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62916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880920" y="1981080"/>
            <a:ext cx="3481560" cy="41846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283860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2"/>
          <a:stretch/>
        </p:blipFill>
        <p:spPr>
          <a:xfrm>
            <a:off x="4726080" y="1989000"/>
            <a:ext cx="3591000" cy="41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3280" y="60912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Nervus medianus:</a:t>
            </a:r>
            <a:br>
              <a:rPr sz="4000"/>
            </a:br>
            <a:r>
              <a:rPr b="1" lang="sl-SI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anatomi</a:t>
            </a:r>
            <a:r>
              <a:rPr b="1" lang="sl-SI" sz="4000" spc="-1" strike="noStrike">
                <a:solidFill>
                  <a:srgbClr val="ffcc66"/>
                </a:solidFill>
                <a:latin typeface="Times New Roman"/>
              </a:rPr>
              <a:t>j</a:t>
            </a:r>
            <a:r>
              <a:rPr b="1" lang="sl-SI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a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8920" y="1981080"/>
            <a:ext cx="453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</a:t>
            </a:r>
            <a:r>
              <a:rPr b="0" lang="sl-SI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. pronator teres, </a:t>
            </a:r>
            <a:br>
              <a:rPr sz="2200"/>
            </a:br>
            <a:r>
              <a:rPr b="0" lang="sl-SI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m. palmaris longus, </a:t>
            </a:r>
            <a:br>
              <a:rPr sz="2200"/>
            </a:br>
            <a:r>
              <a:rPr b="0" lang="sl-SI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m. flexor carpi radialis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m. flexor digitorum sublimis, </a:t>
            </a:r>
            <a:br>
              <a:rPr sz="2200"/>
            </a:br>
            <a:r>
              <a:rPr b="0" lang="sl-SI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m. flexor pollicis longus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m. abductor pollicis brevis, </a:t>
            </a:r>
            <a:br>
              <a:rPr sz="2200"/>
            </a:br>
            <a:r>
              <a:rPr b="0" lang="sl-SI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 m. opponens pollicis, </a:t>
            </a:r>
            <a:br>
              <a:rPr sz="2200"/>
            </a:br>
            <a:r>
              <a:rPr b="0" lang="sl-SI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 m. flexor digitorum profundus, </a:t>
            </a:r>
            <a:br>
              <a:rPr sz="2200"/>
            </a:br>
            <a:r>
              <a:rPr b="0" lang="sl-SI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) m. pronator quadratus, </a:t>
            </a:r>
            <a:br>
              <a:rPr sz="2200"/>
            </a:br>
            <a:r>
              <a:rPr b="0" lang="sl-SI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hipotrofia tenara kod oštećenja n. medianus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824200" y="10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1"/>
          <a:stretch/>
        </p:blipFill>
        <p:spPr>
          <a:xfrm>
            <a:off x="220680" y="620640"/>
            <a:ext cx="4468680" cy="605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352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66"/>
                </a:solidFill>
                <a:latin typeface="Times New Roman"/>
              </a:rPr>
              <a:t>N. femoral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2732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</a:t>
            </a:r>
            <a:r>
              <a:rPr b="0" lang="sl-SI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m. psoas maior et minor, </a:t>
            </a:r>
            <a:br>
              <a:rPr sz="2200"/>
            </a:br>
            <a:r>
              <a:rPr b="0" lang="sl-SI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m. iliacus, </a:t>
            </a:r>
            <a:br>
              <a:rPr sz="2200"/>
            </a:br>
            <a:r>
              <a:rPr b="0" lang="sl-SI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m. sartorius, </a:t>
            </a:r>
            <a:br>
              <a:rPr sz="2200"/>
            </a:br>
            <a:r>
              <a:rPr b="0" lang="sl-SI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m. pectineus, </a:t>
            </a:r>
            <a:br>
              <a:rPr sz="2200"/>
            </a:br>
            <a:r>
              <a:rPr b="0" lang="sl-SI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m. rectus femoris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m. vastus medialis, </a:t>
            </a:r>
            <a:br>
              <a:rPr sz="2200"/>
            </a:br>
            <a:r>
              <a:rPr b="0" lang="sl-SI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 m. vastus leteralis, </a:t>
            </a:r>
            <a:br>
              <a:rPr sz="2200"/>
            </a:br>
            <a:r>
              <a:rPr b="0" lang="sl-SI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 m. vastus intermedius, </a:t>
            </a:r>
            <a:br>
              <a:rPr sz="2200"/>
            </a:br>
            <a:r>
              <a:rPr b="0" lang="sl-SI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) m. obturator externus, </a:t>
            </a:r>
            <a:br>
              <a:rPr sz="2200"/>
            </a:br>
            <a:r>
              <a:rPr b="0" lang="sl-SI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) m. adductor brevis, </a:t>
            </a:r>
            <a:br>
              <a:rPr sz="2200"/>
            </a:br>
            <a:r>
              <a:rPr b="0" lang="sl-SI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) m. adductor magnus, </a:t>
            </a:r>
            <a:br>
              <a:rPr sz="2200"/>
            </a:br>
            <a:r>
              <a:rPr b="0" lang="sl-SI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) m. adductor longus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) m. gracil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309680" y="-27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4572000" y="404640"/>
            <a:ext cx="4376880" cy="604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66"/>
                </a:solidFill>
                <a:latin typeface="Times New Roman"/>
              </a:rPr>
              <a:t>N. Ischiadic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03640" y="198108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musculu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itendinosus, </a:t>
            </a:r>
            <a:br>
              <a:rPr sz="2800"/>
            </a:br>
            <a:r>
              <a:rPr b="0" lang="sl-SI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musculu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imembranosus, </a:t>
            </a:r>
            <a:br>
              <a:rPr sz="2800"/>
            </a:br>
            <a:r>
              <a:rPr b="0" lang="sl-SI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musculus bicep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aput longum), </a:t>
            </a:r>
            <a:br>
              <a:rPr sz="2800"/>
            </a:br>
            <a:r>
              <a:rPr b="0" lang="sl-SI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musculus bicep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aput brevis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66688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4425840" cy="59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148000" y="25992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66"/>
                </a:solidFill>
                <a:latin typeface="Times New Roman"/>
              </a:rPr>
              <a:t>N. perone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03640" y="1700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musculus tibialis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anterior,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musculus extensor  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digitorum longus et brevis,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musculus extens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lucis longu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musculus peroneus tertiu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musculi interosse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2814480" y="9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8000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Градације оштећења нерв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10920" y="1981080"/>
            <a:ext cx="604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уропраk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ксонотмеси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уротмеси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76360" y="333000"/>
            <a:ext cx="33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1" lang="en-GB" sz="4000" spc="-1" strike="noStrike">
                <a:solidFill>
                  <a:srgbClr val="ffcc66"/>
                </a:solidFill>
                <a:latin typeface="Times New Roman"/>
              </a:rPr>
              <a:t>ervus tibialis</a:t>
            </a: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03640" y="1773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culus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strocnemiu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musculus popliteus, </a:t>
            </a:r>
            <a:br>
              <a:rPr sz="2400"/>
            </a:br>
            <a:r>
              <a:rPr b="0" lang="sl-SI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musculus plantaris, </a:t>
            </a:r>
            <a:br>
              <a:rPr sz="2400"/>
            </a:br>
            <a:r>
              <a:rPr b="0" lang="sl-SI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musculus soleu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culus tibialis posterior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musculus flex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i longu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culus flex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lucis long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209760" y="15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45608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YU"/>
              </a:rPr>
              <a:t>Процена функционалног стања и способности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1097280" indent="-219240" algn="just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регистровање трофи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ких и циркуларних сметњ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 algn="just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анализа статике.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 algn="just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испитивање ми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ш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и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не снаг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 algn="just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испитивање обима покрета у зглобовим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 algn="just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испитивање сензибилитет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 algn="just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мерење обима екстремитет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 algn="just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мерење ду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ине екстремитет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 algn="just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анализа динами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Задаци кинезитерапије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2" marL="21240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о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ување физиоло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ш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ког обима покрета у зглобовим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21240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ање-обнова пуног обима покрета код контрактур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21240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о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ување моторне {ем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21240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стимулзација функције парети~них и паралити~них ми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ш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и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21240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ја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ање снаге ослабљених ми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ш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и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21240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ја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ање ми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ш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и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а који нису захва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ени лезијом ПНМ-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21240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побољ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ш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ање циркулације и трофик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21240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спре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авање настанка едем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21240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спре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авање декалцификације костију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21240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спре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авање заостатка у расту екстремитет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21240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обнова сензибилитета, 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21240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реедукација моторних функциј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Times New Roman"/>
              </a:rPr>
              <a:t>Реедукација моторних функција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748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у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ење покрета кроз ве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бе координациј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субституција функција ортотским сердствим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компензација функција другим о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уваним ми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ш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и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има (слаб </a:t>
            </a:r>
            <a:r>
              <a:rPr b="0" lang="sr-Latn-CS" sz="2400" spc="-1" strike="noStrike">
                <a:solidFill>
                  <a:srgbClr val="ffffff"/>
                </a:solidFill>
                <a:latin typeface="Times YU"/>
              </a:rPr>
              <a:t>m.quadriceps femoris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 се мо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е успе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ш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но заменити са</a:t>
            </a:r>
            <a:r>
              <a:rPr b="0" lang="sr-Latn-CS" sz="2400" spc="-1" strike="noStrike">
                <a:solidFill>
                  <a:srgbClr val="ffffff"/>
                </a:solidFill>
                <a:latin typeface="Times YU"/>
              </a:rPr>
              <a:t> m. gluteus max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, слаб </a:t>
            </a:r>
            <a:r>
              <a:rPr b="0" lang="sr-Latn-CS" sz="2400" spc="-1" strike="noStrike">
                <a:solidFill>
                  <a:srgbClr val="ffffff"/>
                </a:solidFill>
                <a:latin typeface="Times YU"/>
              </a:rPr>
              <a:t> m.deltoideus 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 са ми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ш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и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има покрета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а лопатице, слаб m. tibialis ant sa m. ext. hallucis longu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New Roman"/>
              </a:rPr>
              <a:t>Методе кинезитерапиј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2077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позиционирање одузетих телесних сегмената и елевациј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2077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пасивне ве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бе и аутопасивне ве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бе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  (покрете изводити само до физиоло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ш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ке, а не анатомске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  баријере). Избегавати дистракцију, а форсирати апроксимацију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  и клизање зглобних повр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ш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ина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2077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активно подпомогнуте ве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б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2077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пасивне ве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бе у циљу истезања меких ткива 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(и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з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воде се тамо где је до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ш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ло до формирања контрактура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2077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пасивно интенционе ве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бе 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(пасивне ве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бе уз вољно у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е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шћ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е пацијента у 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изво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ђ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ењу покрета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YU"/>
              </a:rPr>
              <a:t>Неурапраксиј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2276280"/>
            <a:ext cx="6912000" cy="38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Неурапраксија (контузија нерва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не ствара прекид аксона, присутна је пареза, парцијал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D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M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продужена инсерциона активност, редукција трасе, а опоравак је за шест недељ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724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Times YU"/>
              </a:rPr>
              <a:t>Аксонотмезис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00000" y="1988640"/>
            <a:ext cx="7344000" cy="448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Овојница нерва је о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уванa, а дистални део аксона дегeнери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ш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Опоравaк понекад из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скује третман и до 18 месeци, у зависности од вис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не лезиј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Клин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чка сика - парaлиза, губитак функције, периферна лезија сензибiлите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т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Комплетна </a:t>
            </a:r>
            <a:r>
              <a:rPr b="0" lang="sr-Latn-CS" sz="2400" spc="-1" strike="noStrike">
                <a:solidFill>
                  <a:srgbClr val="ffffff"/>
                </a:solidFill>
                <a:latin typeface="Times YU"/>
              </a:rPr>
              <a:t>DER,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YU"/>
              </a:rPr>
              <a:t>EMG 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показује денeрвацију, снижену  брзину провoдљивости,полифазију и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33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YU"/>
              </a:rPr>
              <a:t> </a:t>
            </a:r>
            <a:r>
              <a:rPr b="1" lang="en-GB" sz="4400" spc="-1" strike="noStrike">
                <a:solidFill>
                  <a:srgbClr val="ffcc66"/>
                </a:solidFill>
                <a:latin typeface="Times YU"/>
              </a:rPr>
              <a:t>Неуротмезис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потпуни прекид нерва карактер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е се парализом флакцидног типа, брзим напредовањем атрофије и потпуном или апсолутном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ER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реакцијо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EMG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показује денервационе потенцијале, полифазију, редукцију трасе до потпуног губитка моторних јединиц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Dutch"/>
                <a:ea typeface="Times New Roman"/>
              </a:rPr>
              <a:t>Ток периферне одузетости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Стадијум одузетости - траје до првих знакова реинервације и разл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 је у зависности од 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е обољења или повреде, места о{те}ења, узраста пацијента и др. Основни циљ у овом стадијуму је спре~авање те`их неуромускуларних и 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но-зглобних 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ња (контрактуре, хиперпокретљивост, брисање меморије покрета, заостатак у расту парализованог екстремитет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Стадијум опоравка - п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ње појавом реинервације односно регенерације периферног нерва. Циљ кинезитерапије је сензомоторна реедукациј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Dutch"/>
                <a:ea typeface="Times New Roman"/>
              </a:rPr>
              <a:t>Ток периферне одузетости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utch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Стадијум 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т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раjних последица - нaступа 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aкон гoди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у 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д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о 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д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ве oд настa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кa перифe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р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нe парaлизе. Задaци к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нез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тeрапије 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мeдиц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нске рeхабил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тaц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је су 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с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мање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e траj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их последица путем ко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пeнзације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суп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ст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и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ту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ц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је траjно o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те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eних фуnкц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ја ил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 побoљ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ање функција nakон хиру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рш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к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их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 и ортo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т</a:t>
            </a:r>
            <a:r>
              <a:rPr b="0" lang="en-US" sz="2800" spc="-1" strike="noStrike">
                <a:solidFill>
                  <a:srgbClr val="ffffff"/>
                </a:solidFill>
                <a:latin typeface="Times YU"/>
                <a:ea typeface="Times New Roman"/>
              </a:rPr>
              <a:t>ских ме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КОНТРОЛА ОПОРАВКА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У клини</a:t>
            </a:r>
            <a:r>
              <a:rPr b="0" lang="sr-CS" sz="2400" spc="-1" strike="noStrike">
                <a:solidFill>
                  <a:srgbClr val="ffffff"/>
                </a:solidFill>
                <a:latin typeface="Times YU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кој слици најпре се опорављају влакна за бол, затим за додир а најкасније моторна функција и то по типу силазног десцедентног опорав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Тинел зна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Контролни налази </a:t>
            </a:r>
            <a:r>
              <a:rPr b="0" lang="sr-Latn-CS" sz="2400" spc="-1" strike="noStrike">
                <a:solidFill>
                  <a:srgbClr val="ffffff"/>
                </a:solidFill>
                <a:latin typeface="Times YU"/>
              </a:rPr>
              <a:t>EMG </a:t>
            </a: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YU"/>
              </a:rPr>
              <a:t> 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Контролни неуролошки прегле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YU"/>
              </a:rPr>
              <a:t>Контролни физијатриски прегле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97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Физијатриски - кинезитерапеутски поступц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33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намне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окализација неурогене лезиј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процена функционалног стања и способ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одре</a:t>
            </a:r>
            <a:r>
              <a:rPr b="0" lang="sr-CS" sz="2800" spc="-1" strike="noStrike">
                <a:solidFill>
                  <a:srgbClr val="ffffff"/>
                </a:solidFill>
                <a:latin typeface="Times YU"/>
              </a:rPr>
              <a:t>ђ</a:t>
            </a: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ивање задатака кинезитерапиј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YU"/>
              </a:rPr>
              <a:t>избор и примена метода кинезитерапиј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3T20:42:44Z</dcterms:created>
  <dc:creator>WIN98SE</dc:creator>
  <dc:description/>
  <dc:language>en-US</dc:language>
  <cp:lastModifiedBy>katarinaparezanovicilic@gmail.com</cp:lastModifiedBy>
  <dcterms:modified xsi:type="dcterms:W3CDTF">2020-09-26T17:03:47Z</dcterms:modified>
  <cp:revision>16</cp:revision>
  <dc:subject/>
  <dc:title>Kineziterapija kod lezije P.M.N.</dc:title>
</cp:coreProperties>
</file>